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F94-8DA7-4FDF-9E64-823D79DA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071-CA0C-4DCB-B43D-AC9C5CD7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833-14D4-485F-BFC9-1255A07C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EEB-A292-4557-A2F4-3B219CF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972-46EF-4B08-A1EF-0DEB8D27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851-82E0-4F7F-9176-5EB0172F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4CE-D4FA-4DFB-BFD8-F81ED157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BBC-EF0C-4932-A64B-F2220CF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3DF-392B-4C34-BD3B-8997C294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06DF-439B-4CF6-9130-9640D58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4829-C461-45B5-B45D-2BFBCDF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B16-06FE-41AD-A423-AA85FAC4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33E7-60EE-4F79-8DAA-A2CBB12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B987-6616-42D1-B0CD-8CCEDA3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95C-2FFD-4E75-BE1A-F752E9F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4CE-372C-4EED-B4D1-F7864BA4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D859-4D4C-4930-8118-87ED062C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F68AA-BBE6-4D44-A64A-C05AFC90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5F9F9-196B-41F1-AD5C-77E1B7F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ABA02-3B3D-4A24-9F9C-64C9C31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E00B7-3519-4482-A576-4ABCEBD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999CF-2291-41D5-96B8-8FB3BBB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A5C-9291-4674-BDDD-568A1DA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B67BB-B755-442E-B338-6745BF16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916F2-0ADB-4053-9281-0E992C5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B878F-933B-4057-87D0-A2953C6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2CC96-E78A-43B6-AD3B-930008B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97385-8F89-4902-BF32-F5CD2AA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EEC6C-1949-40BB-8ADA-C8E30A91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52E57-511E-4143-A857-5C52BD6D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A3C4-362A-4F3A-9C8E-C263B8E1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B4EC7-66A7-46A6-BD7B-9DD735D8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E22E-3165-4C10-BB5B-F76BD25D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3BF-16A4-4CBC-B321-660DCC6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EDF1-BA2B-4016-AF0D-1AEE7E1F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E5B9-C6EB-4DAD-BC3B-3FFB5200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9113-C08B-48A1-9BF8-3C9CD33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7F3B-E8E4-471A-B575-322C6C8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98F5-5554-4AD7-83BD-A4FDA0F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22C2-FE1E-46BA-BDB9-156D7B1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92E8-184B-4F26-A68C-87C34BD0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731C-AA5C-47BD-B54D-AB8190D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59BB-F0B2-4ECB-8266-C8140A70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61B91-C16F-41D4-86D0-8B7F1687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944-433D-49AC-B937-E2E211E6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BB50D-ED0E-4B5F-A170-7D8EA77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37C06-5507-441F-AD48-4B77376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1F159-2AC5-4C0C-A692-E501ED8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08839-5633-4831-8614-591EEE6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63B40-D191-49E7-9237-DC1C60F5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96202-468F-47FA-BEFF-1219F7C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B7533-E38A-4CC6-B4B1-C32DF6F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05B05-7E41-466F-B65B-F1C110E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E176E-21B2-46F9-A019-2A18D22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C0CAD-D33C-458E-BC8F-54B8D743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B8D-F82E-4270-ACA3-1FB81A5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2AD82-9352-4B91-A713-6C240B29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81350-3D7B-465A-93F4-E774BF19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374B9-2DF0-4883-B2C9-4F8675C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6A7D3-AB71-4719-93F9-E14FDCF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027A2-3666-498D-8638-FF3CFC4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29DC5-A416-4611-8CCD-0363F220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0138F-B3B6-49A3-BBAA-C53765E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DBE10-E34C-498B-9167-AA9A5AD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04FB0-B153-46CC-9ADF-5D1A202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94E66-969B-4675-B447-E8DECBA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E26-C63E-4D74-B532-EDBCC41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77984-E71D-4DF7-B187-79AC12C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08524-5AD0-4F8B-BD10-6BA97DCE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1E7AF-F025-41DD-9E92-7C56A851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8A1F7-D287-4BDB-B3AA-B62F678D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B237D-EE0B-4E32-AC03-2561DDA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6A047-636C-4F41-BB65-91DAEB0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82D3A-A690-43DE-B686-A97E638F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99D6E-B8E4-430B-9E19-58E068E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23ECA-3E24-48D7-8F41-D298E4C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59C6F-E25F-49D4-9BBA-5559791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0EB-2AB1-4FD4-AC08-3CC98D8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872ED-D762-4DE3-9DB0-50C7D3B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6A8AA-221C-4F1B-89AD-8716A8FF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AE472-7753-457C-BD57-28ABB16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D0EEE-2374-4824-8447-C8B1FC41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D022A-D6B3-4D58-B4FC-C8FA6776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EF4-833B-4D21-BC70-1D8FEFE8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9B9-4C4E-4DD7-85CB-A2ECB58928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A69-A439-49C4-BECE-56D613BD18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64C-B405-4FBE-BD96-66D8C499BB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C38-486C-49BD-91FD-A1DE1EA6B6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148-600C-414F-9990-DACC41EF72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E18-258C-4B0D-9422-28AF3C1E73F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EDF-066F-4AC3-8AB6-295F3BED64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tory of Journalis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THE GOLDEN AGE OF YELLOW JOURNALISM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rst, Pulitzer, and the Spanish-American W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nsational coverage of Cuban rebels’ fight for freed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amed read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sured politici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ar was declar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rculation of newspapers skyrocketed $$$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can we see yellow journalism toda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WS IN THE MODERN 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o and television brought an end to newspapers’ media monopo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adio: the first medium to provide 24-hour stream of news cover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levision journalism: Came of age in the 196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963: Nonstop coverage of the Kennedy assass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spapers’ response to compet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ighter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etter format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roved desig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rporate consolid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NEWSROOM HEROES, LEGENDS, AND FOLKLORE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lights from the history of journ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rk Twain, Lois Lane,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ll the President’s Me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Good Night, and Good Lu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ve myths about report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ty slang terms for ‘reporter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THE RISE AND FALL OF AMERICA’S FIRST NEWSPAPER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90: Benjamin Harris published the first and only issue of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ublick Occurrences Both Foreign and Domes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 pages – print on three pages with fourth left blank for citizens to add more news and pass al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cked printing licen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used of containing “doubtful and uncertain Repor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THE ZENGER TRIAL AND FREEDOM OF THE PRESS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35: Freedom of the press strengthened in the colon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hn Peter Zenger jailed by governor for libel after printing accusations of corrup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ually acquit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tizens can criticize govern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ibel only occurs when “false, malicious, and seditious” statements are prin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rew Hamilton was Zenger’s lawy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TRIOTISM, PROPAGANDA, AND THE REVOLUTIONARY W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29: Ben Franklin took over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ennsylvania Gazet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making it the boldest and best paper in the colon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65: The Stamp Act imposed heavy tax on printed matter. Editors protested and colonists united in forcing repe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olutionary discussions heat up. Editors become bolder, exerting political influence and exhorting military a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TRIOTISM, PROPAGANDA, AND THE REVOLUTIONARY W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 1775: Isaiah Thomas, publisher of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Massachusetts Sp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demanded independence from Engl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76: The Declaration of Independence first appeared publicly in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ennsylvania Evening P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was reprinted in 20 other colonial pap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91: The Bill of Rights provided that “Congress shall make no law…abridging the freedom of speech or of the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MERGENCE OF THE PENNY P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novations in printing allow for faster news acces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eaper pap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ster prin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33: Benjamin Day began selling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ew York Su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a penny a copy, pioneering the idea of ‘mass media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newspapers aimed at the interests of the common citiz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RISE OF THE MODERN NEWSROO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spapers become profitable with ad s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re and train reporters in professional w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THE GOLDEN AGE OF YELLOW JOURNALISM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ow Journalis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nsational stor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vish use of pi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usad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ity stu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um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ched climax when William Randolph Hearst (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ew York Journ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nd Joseph Pulitzer (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Wor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battled for supremacy in New York, the nation’s media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0:17:08Z</dcterms:created>
  <dc:creator>Administrator</dc:creator>
  <dc:description/>
  <dc:language>en-US</dc:language>
  <cp:lastModifiedBy>Administrator</cp:lastModifiedBy>
  <dcterms:modified xsi:type="dcterms:W3CDTF">2013-07-21T20:29:10Z</dcterms:modified>
  <cp:revision>15</cp:revision>
  <dc:subject/>
  <dc:title>Chapter one</dc:title>
</cp:coreProperties>
</file>